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4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97A6-2027-4F75-B67E-94400F8F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EB7-4C63-4BB2-84EB-91A7785B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1CF-113E-4464-8A12-82C2FFA8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3C4-3374-467A-9561-10EC4C95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42A9-4CF0-42A6-8E06-7BB603F7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5128-0E0A-4B1D-B531-7ABF2766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FC0C-5A4E-4FD5-B74D-8E133F46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52C4-4DA8-4739-A68A-878257E2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5194-7455-4E02-B69B-D8ACD597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BEB6-3412-4198-B8F8-83046A75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9BB9-313B-47AD-9168-BF623683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6B9-508A-4435-AF39-47E051D6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46BA-9A62-4472-AC84-FFE32A85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F2D8-5C39-4693-9B18-4AB2FE2F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EC58-450B-4726-B3AE-B5F28A70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E14F-C6AA-4362-8F66-EC15DEF0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701D-4D29-4A2E-B271-CA9E888E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E4A-1302-4D9C-8CCC-5FDD615B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CFB-A046-4F04-B393-21C0A9DC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055-19D7-4DBC-9C0A-2A9E039A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835-3B7D-47DA-8DDD-B47C8AE4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6D1-BA5D-4590-9B88-ED051CBF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1C2-DC86-4999-B6A0-587799FF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298-52D6-4F35-A766-C48E2607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93B0-38D4-4967-9E96-364283DD73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8F71-0682-48B0-B5EB-95BCA91FC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ahooligans.com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idsclick.org/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jkids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Search the Internet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ake along a map!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21952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nts for Good Search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phrases in “quotation marks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Miami dolphins in Ask Jeeves for K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type “Miami Dolphins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the results differ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Hi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for new keywords as you sea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a different search engine or direc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your spell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puter looks for EXACTLY what you type! It can’t read your mi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9880" y="1752480"/>
            <a:ext cx="1281240" cy="6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per Hint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       + f to find specific words on a webpage (Ctrl + f in Window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helps you get to exactly what you are loo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also works in Britannica Online and in docu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133720" y="1752480"/>
            <a:ext cx="5205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aluate Websi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at the address b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what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com - company or commer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edu - colleges and univers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gov -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k12 - schools (Kindergarten to 12th gra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mil - mili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net - host computer on a network, similar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org -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aluate websites you u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the auth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sponsors the websi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as it last upda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all the words spelled correct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information factual or bias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cord Your Sour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o record where you got your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 (if giv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tle of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L (the address in the address ba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 and paste the URL into your bibliograph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te you visited this p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Have a good journey</a:t>
            </a:r>
            <a:r>
              <a:rPr b="0" lang="en-US" sz="8000" spc="-1" strike="noStrike">
                <a:solidFill>
                  <a:srgbClr val="ffcc66"/>
                </a:solidFill>
                <a:latin typeface="Times New Roman"/>
              </a:rPr>
              <a:t>!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971800" y="3200400"/>
            <a:ext cx="3230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oose a Brows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Bowser! (He’s the Elm masco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581280" y="2743200"/>
            <a:ext cx="2252880" cy="2252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781680" y="54100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far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Apple brows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Google built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ari doesn’t print the web address or the date on pages you print from the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160020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net Explor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Microsoft brows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the web address and the date print from Internet Explor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553080" y="1066680"/>
            <a:ext cx="1081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 a Search Engin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a700"/>
                </a:solidFill>
                <a:uFillTx/>
                <a:latin typeface="Arial"/>
                <a:hlinkClick r:id="rId2"/>
              </a:rPr>
              <a:t>www.google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gle is the most popular search eng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orks like the index of a boo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it when you are looking for something specif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looks for keywords you ty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uses “bots” to look for words you type--people don’t select the si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a look at Google Help for super-h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200400" y="1295280"/>
            <a:ext cx="2514600" cy="908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629400" y="1981080"/>
            <a:ext cx="1281240" cy="6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 a Search Dire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aa700"/>
                </a:solidFill>
                <a:uFillTx/>
                <a:latin typeface="Arial"/>
                <a:hlinkClick r:id="rId2"/>
              </a:rPr>
              <a:t>www.yahooligans.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’s like the table of contents in a book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has lists of categor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tegories lead to more specific categor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’s good to use when you’re looking for ideas or brows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ou can also type in keywor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bsites are chosen by people, not machin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y Yahooligans Help to learn mo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523880" y="1371600"/>
            <a:ext cx="58546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other Search Dire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a700"/>
                </a:solidFill>
                <a:uFillTx/>
                <a:latin typeface="Arial"/>
                <a:hlinkClick r:id="rId2"/>
              </a:rPr>
              <a:t>www.kidsclick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ites are chosen by librari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oesn’t have as many websites as other sites, but they ar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o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by keywords or categ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“Search Lessons” and the tools at the top of the homep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971800" y="1371600"/>
            <a:ext cx="31240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 a Natural Language Sear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6775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sk Jeeves for Ki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a700"/>
                </a:solidFill>
                <a:uFillTx/>
                <a:latin typeface="Arial"/>
                <a:hlinkClick r:id="rId2"/>
              </a:rPr>
              <a:t>www.ajki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a question, but just one at a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“No Frame” to see the address of the site where you are (and to remove the picture of Jeeves!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AJ Kids Help for good suggestions about searc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02:21:35Z</dcterms:created>
  <dc:creator>Bryan and Jill Berry</dc:creator>
  <dc:description/>
  <dc:language>en-US</dc:language>
  <cp:lastModifiedBy>heine</cp:lastModifiedBy>
  <dcterms:modified xsi:type="dcterms:W3CDTF">2005-04-27T02:43:51Z</dcterms:modified>
  <cp:revision>12</cp:revision>
  <dc:subject/>
  <dc:title>Search the Internet</dc:title>
</cp:coreProperties>
</file>